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247-C515-4C72-892F-82CA5FE3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021-8D2B-49DA-813F-2DD2647A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CBF6C-FBD2-47C9-9388-08721705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6D3DB-9998-44C6-BD2A-A9EAE1CD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96A50-D6A3-4BB1-8E73-1048C12C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D71F6-A027-4BC4-BCCC-7B3E17B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2A029-4EBE-46EC-9B49-03682472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0A581-301B-493C-967C-FB8BC70D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5AF33-F3EE-47F7-BC93-3D1C3A38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77CC5-0716-44A4-86E4-48BAA0EE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2A58E-6596-4C17-8CE1-0AB68B30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33A75-B760-4B45-A64D-5A03DC8E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8A5-207C-4F74-96D2-867F037D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A4518-9259-45D1-9E12-F048FAB5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D06A6-0A24-4F09-90A4-0FB6447E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97FF0-A7B6-40EA-96ED-05101C3D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6706B-CE22-4EA5-A1E3-4FD005E5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89305-DB55-4DF5-8BE1-D69F5E30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833A4-82A7-4AC9-BB05-F9F15015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7C1A8-82F7-4DAE-BEA2-485C3DBA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8CB0A-9D39-4C99-8834-C26BCBC2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6AFCE-58AD-4A6F-9F59-61859F40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39C74-E860-4116-9303-80F08E00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21B-5138-4D17-AB61-A27671D0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BCBB8-2ECC-44D2-821D-4568F735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0AB76-25AB-4320-B101-82A85038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FA7FA-4432-46EA-B76C-199934B6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D02CF-3206-4F4C-A065-FB2AD365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FC32B-B846-4C8C-BF4C-97FA195A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22386-9A51-4BCA-AEDE-B97ACBAA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BF442-F059-43C7-84E8-955FE0C5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0A5BB-DCB1-4CD5-900A-2EE127C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BD143-6778-4C54-959F-01522095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38478-7F79-406C-9D3D-E05C0A3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4D21-7928-4671-AE19-A5DF7F9E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6961B-1AD7-48AC-9E72-91936E55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1848A-16CA-4EB6-97E7-AC066FC0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43CA5-B74A-41AE-8E97-8182F627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59265-27BA-4403-9E88-32917C36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70408-61BE-4CBF-8F44-6F040B55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25656-BA24-4286-A68F-66EADF09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CA7B2-FB40-4111-9427-24775A38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D72E3-27A8-441E-A0F2-8D33CC7C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1A6C2-2220-4581-9C3B-199A118A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34DEE-66A2-41A5-82AC-53D7C400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27BA-3EE8-4B2C-B667-A3C3EBC5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D3DDD-31D1-440B-B12B-ED0BF0FE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79582-B3D3-428A-9FBF-097ACE16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328DD-15BD-42CF-9BEF-4A4B150E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7FBA6-91B8-4591-87D1-4C896C61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D7B8D-B918-490E-BD2F-D55524FB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5487A-F0E8-4837-8C53-B5F49F8B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40229-5652-4502-AC7C-9B1DF82C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AE820-6672-4D9E-BBC8-EA29C8D0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D2D91-3276-47D8-B6E6-505CA0CB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9A098-E6B6-40CE-9333-4E69207A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85D4-28D5-4BE1-BF3B-258C8541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A250D-665F-47F8-A225-B681C898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B8752-4E3C-466C-B539-C59D5A6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423A6-03CA-4F93-996B-0C2A8BDD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E8F9E-CC7E-4689-802F-ED6390C5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4E153-A195-4C91-BF36-76C2A449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4B091-536B-4B3F-A37A-A4F93BED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E1424-B9C3-4FE9-8997-785C0909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7947B-C015-4712-A798-D17F4CF2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288B7-2D9D-49D7-AAC8-49E67859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25A0F-942D-4A1F-A5F0-338CD4E0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868E-F7B9-42C7-9734-1125AFF6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D88A3-6047-4637-9989-F98E34E7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48BEE-FAA0-4246-B89D-E989D983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A3F0A-B945-4479-B997-08001FFE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7DB8E-E108-46C7-A832-A0B69C2F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B05B3-0667-4328-8446-5D61A5F2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99FFD-890E-46AF-B14A-699FA8DD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E0067-BC74-405E-83FF-64A11E7A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51720-8662-471D-BF78-C9A44CBC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71567-EA41-43B3-AB32-B5A6731B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3F17B-FC52-4C38-8C92-5E2261EF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A20C-48F2-4866-9D45-E19F9FAA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C7212-F4EF-4C59-8543-390CD5B7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B27A3F-97E9-4C4C-8B68-B6E87F93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9FB01-7450-4EB0-A539-BBAF2D9A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400F4-EDB8-4664-BB53-0B14804D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2D7C0-77D9-40B2-B58D-6EE8C865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39E36-6760-4BEB-A894-13932643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49629-EC96-4E48-9475-82C643DC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4BC50-BA04-4114-B1B6-02FDED5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DF2686-62F7-4C54-BF33-4D432083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D278C-FA09-4851-8511-C13A6B2A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4F8C-A4C5-4ED0-898D-FB3A9191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D374C-C148-42C2-B2D0-D9B1792C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36CD0-6232-492F-8757-94239ADA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924E4-BCDD-4CD9-920A-FAFDFC78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259CE0-83C7-43A7-B101-016EDAFE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67E15-5C8A-4709-A92D-BF2F7881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D8D22-74CC-4B74-836D-20CDCED8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566C4-885E-49A5-A13D-785255D9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5BE24-5A1C-4EC6-A6E4-2B1EBC7A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DCFF85-29F6-47E5-BA40-48CD9A33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6109C-2F92-4440-86B9-9EFC8134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723F-23F6-40EA-A730-ACAE5142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DC4399-A6A5-4777-95F0-2FF0E4DF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A55BB-FC6A-4B1E-BC0B-3C30190E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8F8A8-1FA1-4A3E-AD23-1E82B8BA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55906-81AD-468B-8432-62C34086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5BE50-E0C0-4B6E-9784-AA1B27FF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3A4274-D9C1-422E-BC45-C6C3E3C1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1CDFE-DAB5-4EF5-9985-78AE6328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3BD5D-06FB-49F7-9FE2-7115B42D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5127C-8A08-4004-BDE3-B4E09483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4854B-C44B-4490-8667-766B6A5C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E0D-291C-4F8A-A523-694A90CA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E82A-70AC-4803-8702-3D1E9D24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D83B3-D080-413C-AFC0-9A66DE2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E5CDB5-FEDD-47D1-AA54-1B2BCB0B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521E0C-5A34-41AF-A59C-50F616A6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48C65-BC6F-418D-A8D5-6E3E2BF0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E14822-6082-45C5-8026-7359B6CA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2B494-9F4F-4C4D-BB2C-3688AB3E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F6048-5692-4BEC-BF47-5336AFB1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7A8CB-B132-4214-B7C9-F2CB6A23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5EC841-F517-4AF4-A896-9E8FD4E9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2E67B-A029-4B6E-A2F9-726EC0DF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4E16-1122-461D-8080-919C242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47F155-60CE-44A3-8E57-8FFCE1B5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214C2-9149-4E0F-B056-3BD77E0C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BCBBE-5698-43E7-BBD6-BD5CD819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8A074-FE2B-4DDD-B293-56DAD4E1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6EE2CA-1EFF-4803-9E6D-C7E57A85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69909-5A85-4239-8613-AAFE122B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C78861-94CA-4E9C-B304-9DC86E79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72821-DA82-4786-966B-AC773627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09647B-3C7A-4145-AE6B-DED378AB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75627-FDC2-48FF-8117-A75B770F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7B5B-E25F-4A7F-A351-81760DE9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9FF38-6465-47D1-9A71-EF73CB81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64044-E433-4078-9B57-57509D71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0DC82E-A1E5-41A8-90E6-EA6700AF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4472B-B37A-4121-A88A-F8CC2100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F1C5D5-ADDF-4C2F-A0B3-405AC69C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5A27F6-6072-45A0-BDD5-9DA1EB93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1956F9-4B32-4116-88FC-A07C6D30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4FF762-7857-4532-829D-E3AE1B09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99FAC9-7B04-495E-B9B1-3109CF23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934B1F-227F-44DE-AB96-EBBF9575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12C8-4B39-4EEC-A963-2D16FA4E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0170A-1965-44ED-ACAF-A00A0E8D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8AE56-AA59-4342-9DB9-214B3F77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76F59A-82A7-41C9-928B-9499DEE1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170A2B-5F5F-4437-B491-90528102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96CFB-310B-4469-8722-BEBA30B7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382713-EF16-46FD-9505-71F90CE9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EC5A6C-36C5-40F4-AE4F-B011B65F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843FA-6165-41B0-A830-3141EA08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3AF47B-F1CE-4E76-9323-7E95CDD8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81DC8-4085-40B6-B190-7CC1DA78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8EC7-5C7F-46E2-AC78-E692B92F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FA70E-D8A8-405A-89B5-07115F28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C43B10-3363-4350-86F0-1B7CD0F4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91E3C-6402-416A-B44F-51B5E517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4F71CD-66BA-4076-A739-2CB20815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785F9E-6AB4-40D6-9989-B3BA58C6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800D1-3CA5-4292-8336-BFBB91F0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24EF51-2310-4A4C-8866-20F6767F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4A5032-577B-4C19-A511-C3F387E5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422DB-8BDF-4AFB-9370-92F130F9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97C61-E017-4245-A4B5-15A7E08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DEDC-8E9A-4411-825D-6584C02E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A91ED-836A-450A-B156-0C87F195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DFF9A4-68CF-4DB4-9DA6-6D3945E9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3A2FE7-76CE-48EF-AD16-137ED0F9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7D12-E02E-4989-BCA5-82DF4F9E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49AC-E32A-439E-A98C-BA38F8C0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0B85-82B4-4581-B6B4-D152A449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BC75-A56B-4998-9236-7D08D2D4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3DD-FE01-49E3-8F6A-93A79425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F788-EC60-4BF6-B221-9467933D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C8D5-FDDB-47FB-A1BC-1C19F199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6755-EFCE-4EBF-9EA6-6045338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2C32-953F-4858-A7EB-7518E80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CBD0-CC6C-49D3-92D9-58C72D3B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4BE70-2474-4549-8666-6B3B107D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BE26-3B82-40BB-80FB-34A40751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7851-EE7F-4BAB-8B9E-2E2EF0EF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DAB61-B243-4D90-A4B5-3C59D987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D0A4-EB23-4431-8245-FC60F4F9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9E1-86DD-4511-AB86-292167B8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73110-8FBE-4CC3-87B2-3B6FBD67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47502-EF32-4E66-974B-B6335DAB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B466D-AE31-42CA-8B25-FC6D990C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6F8AE-A859-4E38-8408-649CEFED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8618-A7EA-4D55-9E2A-25F678F7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49211-1DE9-4D22-81FB-18B73DC7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CBDE2-C252-4591-BC7D-C2483508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C652D-2D72-459D-8D09-553EF083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4D2E9-C4FB-4F21-92B6-69331A0C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CCBEE-3E5C-4BF2-9798-F332F191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A3F-51DA-4957-B48D-39DAA89D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71D66-12DA-4801-9008-B93249EE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E2DB-BC7D-4D58-B773-1B5D1456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079B0-A909-4F04-B04B-E58D3E55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D7329-F5DA-48E5-9D6B-D27EA190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B4D95-6B06-4C04-8B55-233F6557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7E88C-CA25-4735-BBFF-62C97472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51957-A0B8-4B8D-8F57-A8DF2848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748BC-6FA8-41F1-8279-12159F78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D87BD-18B4-43AB-9F23-B42C6AC7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6DED-BC84-4759-A898-EC01AC8F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487-4AB8-46A6-ADE3-79CFA005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CF1D6-C5DF-4D1E-A552-00B4CFF2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28FE9-4BC1-46F0-A1A7-8E799DD7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DC799-DA38-44B4-B0B6-5DC510AC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372D4-9E00-4A26-BE64-A51571B8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51317-79D5-404E-90BB-79A12E13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FBB9A-D157-4451-BD63-0A372529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9AB14-CDD9-43D1-A18F-40D8FF65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8593-488A-40BB-9D9A-4CA7F364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E125A-BE4A-4EB7-ADD9-5EEFD8B3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0A48B-9F2E-4CF5-93D4-E34B8BC3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5EA-9D4D-48EB-8787-D8E57333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86C08-67AB-4E9B-B82A-0F5D419F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281F-080B-4CAE-8A84-835F8770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0F62E-7ED9-40F2-A071-5229267C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77071-0042-49D9-81FB-D7AB70AC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143AE-ABD9-4419-8C0F-81EB7596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40B52-3454-4646-B771-78E5308B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BAF86-2C61-48F6-A5CB-6DE0B12D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E3DE9-BD23-4217-8126-6877BDA3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95136-864F-47CC-869D-261E9430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D831-7442-4D6C-9969-7B0BE467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9A3-CB9E-4054-AF6A-058C0A13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BF5B6-CAC5-45A1-8F9E-D078969F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2194A-D721-4D99-8039-5FD06E42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488C4-538D-4A13-85C7-BDA044A2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078EF-7312-4276-AA35-F6C9F4D6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94DA-CD27-469A-A187-8CF59882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5F5CF-D19C-48CB-8D92-D43D41A8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A17B0-3B18-4A20-9264-F5ABC7A7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E8ADE-6D11-4C02-BFF1-AC1E8504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CF525-8DDF-4F8E-A53F-6C88B7CF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F373E-64F5-4F28-94DC-254B81A0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F72-5263-444A-970C-FCD233AB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5495A-A843-48EE-8F83-D2C4D7C8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21912-F076-4B4F-AA06-36E9723B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9B4F9-E8E3-4D58-8B90-A25299C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31C84-7D20-45B2-8448-870552FE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192F0-FF42-49DF-9FEE-030BE51E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A2C6E-B1ED-4F56-899B-C2A2BD94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BB16D-F2C8-492A-BB76-BC1D9443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A2700-5786-42A1-874B-83074AF3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21CC8-FF74-420D-8057-2C798F73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D96D5-3E27-43EC-AFD2-22B270A9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40B1-8A1B-42D5-A29A-FC009562A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BFA9-2FFC-4B95-90E3-5D3CD23759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6DA9-8FE7-4E2C-A5AF-5256F67A2C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3A00-3675-4291-BA1A-9DFF56006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3544-F002-4D2C-9071-D3B1477B76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1460-6170-45C8-AE99-135A481FCD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4E9D-FB0A-46CC-B78F-5BB14183BA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8379-3AE9-4F2B-B56C-6DD8985DC2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46FD-F90D-4FE5-9227-970B49281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8238-46F4-40AC-A936-80D2B73732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6D30-4838-48AD-8998-54FC23E1DA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34F4-CE4E-454A-B985-E1C1D74005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7564-D701-472B-B89E-A621037F35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A957-69F8-4698-AB0D-CB810D2DF0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1004-FB3D-4948-B6A6-E5CD6CC9D7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0C17-E406-4489-B5EE-72589E1A66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11F0-7B34-4CCF-BF4D-EE9FC72CFF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C70B-A796-4036-B2B0-01193B631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196A-2DE4-483F-B48A-249471039A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A1C1-E2DD-42C6-9F88-92DD38B3BD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2C53-168D-4CFC-BA40-828EB30D7A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4E63-6F6A-4610-83C7-219A4EF9F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7680-3B1F-4DC7-ABC1-0B13139299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6B4F-FA78-42B4-AC20-A61624F8D8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131B-488F-41A1-92B9-34E96C275F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A689-8F13-43FD-90E3-5009F301E2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9E5E-3641-4C92-A4DB-A9966B3174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A6A9-E850-4887-B8E8-6DFC03A77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944E-2E20-4D8E-878E-561FE953F6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1216-81D2-43A2-BE86-931DE3B3F1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9974-31F4-4174-9DE0-99D7C89A6D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3E05-21A5-47B5-A305-C701261CA8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FF92-C87F-4442-B265-D2256E93A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7B1F-0E27-4B0E-B964-D8E952F883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5B85-4DDC-4500-B159-4D89AD98E8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9B6B-A7A7-4FBC-BF47-C12641401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B74F-297B-4EDF-A242-72EA196335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6471-304D-4C2E-9618-35AB7B630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A494-A50E-4037-9194-E3FEF17F1B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4329-474B-41EF-BA89-D83AE33874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409680" y="3124080"/>
            <a:ext cx="83246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57320" y="906480"/>
            <a:ext cx="8827920" cy="58388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0" descr=""/>
          <p:cNvPicPr/>
          <p:nvPr/>
        </p:nvPicPr>
        <p:blipFill>
          <a:blip r:embed="rId3"/>
          <a:stretch/>
        </p:blipFill>
        <p:spPr>
          <a:xfrm>
            <a:off x="811080" y="1589040"/>
            <a:ext cx="81536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2" name="组合 5135"/>
          <p:cNvGrpSpPr/>
          <p:nvPr/>
        </p:nvGrpSpPr>
        <p:grpSpPr>
          <a:xfrm>
            <a:off x="142920" y="863640"/>
            <a:ext cx="8858160" cy="5371920"/>
            <a:chOff x="142920" y="863640"/>
            <a:chExt cx="8858160" cy="5371920"/>
          </a:xfrm>
        </p:grpSpPr>
        <p:pic>
          <p:nvPicPr>
            <p:cNvPr id="1033" name="图片 1" descr=""/>
            <p:cNvPicPr/>
            <p:nvPr/>
          </p:nvPicPr>
          <p:blipFill>
            <a:blip r:embed="rId1"/>
            <a:stretch/>
          </p:blipFill>
          <p:spPr>
            <a:xfrm>
              <a:off x="142920" y="863640"/>
              <a:ext cx="8858160" cy="53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1" descr=""/>
            <p:cNvPicPr/>
            <p:nvPr/>
          </p:nvPicPr>
          <p:blipFill>
            <a:blip r:embed="rId2"/>
            <a:stretch/>
          </p:blipFill>
          <p:spPr>
            <a:xfrm>
              <a:off x="1547640" y="4451400"/>
              <a:ext cx="7201080" cy="14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33200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2627280" y="1557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428472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550872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702000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8"/>
          <a:stretch/>
        </p:blipFill>
        <p:spPr>
          <a:xfrm>
            <a:off x="824400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9"/>
          <a:stretch/>
        </p:blipFill>
        <p:spPr>
          <a:xfrm>
            <a:off x="1332000" y="21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0"/>
          <a:stretch/>
        </p:blipFill>
        <p:spPr>
          <a:xfrm>
            <a:off x="2627280" y="21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1"/>
          <a:stretch/>
        </p:blipFill>
        <p:spPr>
          <a:xfrm>
            <a:off x="4211640" y="21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2"/>
          <a:stretch/>
        </p:blipFill>
        <p:spPr>
          <a:xfrm>
            <a:off x="5292720" y="21477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3"/>
          <a:stretch/>
        </p:blipFill>
        <p:spPr>
          <a:xfrm>
            <a:off x="6977160" y="2174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4"/>
          <a:stretch/>
        </p:blipFill>
        <p:spPr>
          <a:xfrm>
            <a:off x="8101080" y="2147760"/>
            <a:ext cx="431640" cy="384480"/>
          </a:xfrm>
          <a:prstGeom prst="rect">
            <a:avLst/>
          </a:prstGeom>
          <a:ln w="0">
            <a:noFill/>
          </a:ln>
        </p:spPr>
      </p:pic>
      <p:sp>
        <p:nvSpPr>
          <p:cNvPr id="1047" name="直接连接符 5136"/>
          <p:cNvSpPr/>
          <p:nvPr/>
        </p:nvSpPr>
        <p:spPr>
          <a:xfrm>
            <a:off x="1692360" y="4437000"/>
            <a:ext cx="1079280" cy="1513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直接连接符 5137"/>
          <p:cNvSpPr/>
          <p:nvPr/>
        </p:nvSpPr>
        <p:spPr>
          <a:xfrm flipH="1">
            <a:off x="1547280" y="4451400"/>
            <a:ext cx="1729080" cy="14986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5138"/>
          <p:cNvSpPr/>
          <p:nvPr/>
        </p:nvSpPr>
        <p:spPr>
          <a:xfrm>
            <a:off x="5003640" y="4479840"/>
            <a:ext cx="2808360" cy="14702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5139"/>
          <p:cNvSpPr/>
          <p:nvPr/>
        </p:nvSpPr>
        <p:spPr>
          <a:xfrm flipH="1">
            <a:off x="4642920" y="4451400"/>
            <a:ext cx="1729080" cy="14986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5140"/>
          <p:cNvSpPr/>
          <p:nvPr/>
        </p:nvSpPr>
        <p:spPr>
          <a:xfrm flipH="1">
            <a:off x="6300720" y="4437000"/>
            <a:ext cx="1728720" cy="14986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54" name="组合 6148"/>
          <p:cNvGrpSpPr/>
          <p:nvPr/>
        </p:nvGrpSpPr>
        <p:grpSpPr>
          <a:xfrm>
            <a:off x="185760" y="871560"/>
            <a:ext cx="8772480" cy="5505480"/>
            <a:chOff x="185760" y="871560"/>
            <a:chExt cx="8772480" cy="5505480"/>
          </a:xfrm>
        </p:grpSpPr>
        <p:pic>
          <p:nvPicPr>
            <p:cNvPr id="1055" name="图片 1" descr=""/>
            <p:cNvPicPr/>
            <p:nvPr/>
          </p:nvPicPr>
          <p:blipFill>
            <a:blip r:embed="rId1"/>
            <a:stretch/>
          </p:blipFill>
          <p:spPr>
            <a:xfrm>
              <a:off x="185760" y="871560"/>
              <a:ext cx="8771040" cy="54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图片 6147" descr=""/>
            <p:cNvPicPr/>
            <p:nvPr/>
          </p:nvPicPr>
          <p:blipFill>
            <a:blip r:embed="rId2"/>
            <a:stretch/>
          </p:blipFill>
          <p:spPr>
            <a:xfrm>
              <a:off x="671400" y="1509840"/>
              <a:ext cx="8286840" cy="486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7" name="椭圆 6149"/>
          <p:cNvSpPr/>
          <p:nvPr/>
        </p:nvSpPr>
        <p:spPr>
          <a:xfrm>
            <a:off x="1403280" y="314172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椭圆 6150"/>
          <p:cNvSpPr/>
          <p:nvPr/>
        </p:nvSpPr>
        <p:spPr>
          <a:xfrm>
            <a:off x="4356000" y="314172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椭圆 6151"/>
          <p:cNvSpPr/>
          <p:nvPr/>
        </p:nvSpPr>
        <p:spPr>
          <a:xfrm>
            <a:off x="7956720" y="306864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椭圆 6152"/>
          <p:cNvSpPr/>
          <p:nvPr/>
        </p:nvSpPr>
        <p:spPr>
          <a:xfrm>
            <a:off x="2050920" y="573408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椭圆 6153"/>
          <p:cNvSpPr/>
          <p:nvPr/>
        </p:nvSpPr>
        <p:spPr>
          <a:xfrm>
            <a:off x="5003640" y="580536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椭圆 6154"/>
          <p:cNvSpPr/>
          <p:nvPr/>
        </p:nvSpPr>
        <p:spPr>
          <a:xfrm>
            <a:off x="7380360" y="566100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5:17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